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E633-B939-406F-AA16-A84C57E178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DE03-F11F-474B-84B1-27817F9638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DACA-44A5-46C5-9E3C-69DBBDAC8C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9244-7547-4DC5-B36D-10FC8EEA2B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7E92-4E87-47AE-ADE8-FC36196DFA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2608-EA8F-40C0-A2B8-1D52580F93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B937-CCB1-49FD-8EE5-6765982AC7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D687-0CBE-456E-9F90-1E88BA8F3E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5287-8323-41D1-A9C5-87F19795F2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5FE8-8B1F-46AC-B036-23D2198424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FC78-D629-45F2-9003-F289235320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6913-9842-4E07-BDCC-3B480CBAEC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CC47-AD7F-42DC-B35A-B8CE154320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13DE-1E9D-4A4F-B318-9C53444BE8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F830-C7E6-4C1F-8706-5009363BC9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4AD1-5212-4322-BE6D-7198E9C7AE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1D9A-AAF5-40E5-B7CF-8489BD1086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229B-D35C-4742-ADFC-B2CC5D1288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63E6-542F-40E5-AC1D-B909E58F5A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9404-A058-42B2-A262-CA90758324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39CE-0AF5-49EA-8230-75C32519CA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BD67-4063-4C67-88EA-01620882E3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C56E-FB35-4C76-A5EC-DC1FBA5FF9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3DDA-3C40-40CF-8B2E-3F92565302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D44B-06AC-43E3-ABCA-65A3854F36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930F-858B-4474-82CB-AD3E2D615D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A84A-F0A8-440A-BB51-8BC48E737B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D8B8-6EAD-41EB-B91D-16B799B2D6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3858-C698-47F5-8AE3-09C42BF3E8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7403-4F38-4789-B4D5-90A6780BD8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0810-9888-446D-A464-AA45F7CBF9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597F-57F1-474A-A553-F0948CECD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8DE4-8213-4D6E-842A-A74085D8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8734-6B2E-4584-B993-8E92D0223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7E52-B075-433C-8783-DC51A5F24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AD3D-2068-4164-B063-9B455027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85E5-BAA6-4656-8256-E0738804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93CD-C338-4297-980D-A7D59CB5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2FD7-59A7-4C19-92CC-72D51DC2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F782-0C7C-482E-9A78-F938BF2F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0B6C-9996-4BA9-9F76-D36BBA15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DE7C-C2AF-4E9D-8AA2-5A341E9C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4372-6217-4698-A5FC-DBB1113C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7E7D-2119-4553-AB72-1E97F793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164C-34CD-4F10-9FA5-278219B9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35E4-ACB6-4F74-82D0-62C40380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672B-A5E3-40A7-BD67-0FFBFDB68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10ED-414F-4172-95E0-95577EC2C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815B2-930D-4B97-855B-39080711E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94490-C291-4B98-994C-5C3BC2E3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CEF69-3CF1-4617-9ABE-93E8D48D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BE487-E295-4662-B57C-4A36FCB8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6F804-6B63-452F-8A9B-761DBE0D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108D-C52E-44CB-87EC-146126CA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3CB44-7202-4F50-8A20-E7A593A3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D217E-43D8-4D13-90B1-1FAF155F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C069F-20AC-4EAC-8A62-6F0E73D3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4799E-B196-45B5-AEAC-CA6862EA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A8C45-A6FE-46F0-B422-DE0050CC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719B0-CD60-45C4-ADDD-8C3A989A4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D249D-ACA5-414B-9249-AB63089F3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F171-E024-41E0-87F6-F9C519AF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0C51-114F-44EE-83C2-7DC6E87F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24BD-2477-45B5-BC36-F78A453D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815D-4DA1-4D6A-9426-5803CBDF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24AE-63EC-46EF-A551-E502D0FC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3F5E-8D24-4DD3-8F8C-EEA999AE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601D-5EEB-426F-A216-84A7BB3EBB1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0980-0CD2-4B42-8A58-4781DE6025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0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78B9-6AA1-4D68-AA6E-BD9D0E4A9F4A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lbertina"/>
          <p:cNvPicPr/>
          <p:nvPr/>
        </p:nvPicPr>
        <p:blipFill>
          <a:blip r:embed="rId1"/>
          <a:stretch/>
        </p:blipFill>
        <p:spPr>
          <a:xfrm>
            <a:off x="1403280" y="404640"/>
            <a:ext cx="6464520" cy="11336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468360" y="1916280"/>
            <a:ext cx="82296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00"/>
                </a:solidFill>
                <a:latin typeface="Georgia"/>
              </a:rPr>
              <a:t>ИСТОРИЯ И ФИЛОСОФИЯ НАУКИ</a:t>
            </a:r>
            <a:br>
              <a:rPr sz="44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http://philoslog.albertina.ru</a:t>
            </a:r>
            <a:br>
              <a:rPr sz="2400"/>
            </a:b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http://ratio.albertina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79567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Предельные основания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95280" y="3357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00"/>
                </a:solidFill>
                <a:latin typeface="Georgia"/>
              </a:rPr>
              <a:t>Философия исследует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75"/>
              </a:spcBef>
              <a:buClr>
                <a:srgbClr val="660000"/>
              </a:buClr>
              <a:buSzPct val="7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00"/>
                </a:solidFill>
                <a:latin typeface="Georgia"/>
              </a:rPr>
              <a:t>категории</a:t>
            </a:r>
            <a:r>
              <a:rPr b="0" lang="ru-RU" sz="2600" spc="-1" strike="noStrike">
                <a:solidFill>
                  <a:srgbClr val="660000"/>
                </a:solidFill>
                <a:latin typeface="Georgia"/>
              </a:rPr>
              <a:t> - предельно общие понят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75"/>
              </a:spcBef>
              <a:buClr>
                <a:srgbClr val="660000"/>
              </a:buClr>
              <a:buSzPct val="7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00"/>
                </a:solidFill>
                <a:latin typeface="Georgia"/>
              </a:rPr>
              <a:t>первые</a:t>
            </a:r>
            <a:r>
              <a:rPr b="0" lang="ru-RU" sz="2600" spc="-1" strike="noStrike">
                <a:solidFill>
                  <a:srgbClr val="660000"/>
                </a:solidFill>
                <a:latin typeface="Georgia"/>
              </a:rPr>
              <a:t> причины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75"/>
              </a:spcBef>
              <a:buClr>
                <a:srgbClr val="660000"/>
              </a:buClr>
              <a:buSzPct val="7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00"/>
                </a:solidFill>
                <a:latin typeface="Georgia"/>
              </a:rPr>
              <a:t>последние</a:t>
            </a:r>
            <a:r>
              <a:rPr b="0" lang="ru-RU" sz="2600" spc="-1" strike="noStrike">
                <a:solidFill>
                  <a:srgbClr val="660000"/>
                </a:solidFill>
                <a:latin typeface="Georgia"/>
              </a:rPr>
              <a:t> цел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5" descr="logo_ratio"/>
          <p:cNvPicPr/>
          <p:nvPr/>
        </p:nvPicPr>
        <p:blipFill>
          <a:blip r:embed="rId1"/>
          <a:stretch/>
        </p:blipFill>
        <p:spPr>
          <a:xfrm>
            <a:off x="179280" y="142920"/>
            <a:ext cx="649440" cy="649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logo univ"/>
          <p:cNvPicPr/>
          <p:nvPr/>
        </p:nvPicPr>
        <p:blipFill>
          <a:blip r:embed="rId2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7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Понятие и структура философ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249192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00"/>
                </a:solidFill>
                <a:latin typeface="Georgia"/>
              </a:rPr>
              <a:t>Предельные основания </a:t>
            </a:r>
            <a:r>
              <a:rPr b="0" i="1" lang="ru-RU" sz="2600" spc="-1" strike="noStrike">
                <a:solidFill>
                  <a:srgbClr val="660000"/>
                </a:solidFill>
                <a:latin typeface="Georgia"/>
              </a:rPr>
              <a:t>скрыты</a:t>
            </a:r>
            <a:r>
              <a:rPr b="0" lang="ru-RU" sz="2600" spc="-1" strike="noStrike">
                <a:solidFill>
                  <a:srgbClr val="660000"/>
                </a:solidFill>
                <a:latin typeface="Georgia"/>
              </a:rPr>
              <a:t> от нас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00"/>
                </a:solidFill>
                <a:latin typeface="Georgia"/>
              </a:rPr>
              <a:t>•</a:t>
            </a:r>
            <a:r>
              <a:rPr b="0" lang="ru-RU" sz="2600" spc="-1" strike="noStrike">
                <a:solidFill>
                  <a:srgbClr val="660000"/>
                </a:solidFill>
                <a:latin typeface="Georgia"/>
              </a:rPr>
              <a:t>	</a:t>
            </a:r>
            <a:r>
              <a:rPr b="0" lang="ru-RU" sz="2600" spc="-1" strike="noStrike">
                <a:solidFill>
                  <a:srgbClr val="660000"/>
                </a:solidFill>
                <a:latin typeface="Georgia"/>
              </a:rPr>
              <a:t>не даны в наблюдении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00"/>
                </a:solidFill>
                <a:latin typeface="Georgia"/>
              </a:rPr>
              <a:t>•</a:t>
            </a:r>
            <a:r>
              <a:rPr b="0" lang="ru-RU" sz="2600" spc="-1" strike="noStrike">
                <a:solidFill>
                  <a:srgbClr val="660000"/>
                </a:solidFill>
                <a:latin typeface="Georgia"/>
              </a:rPr>
              <a:t>	</a:t>
            </a:r>
            <a:r>
              <a:rPr b="0" lang="ru-RU" sz="2600" spc="-1" strike="noStrike">
                <a:solidFill>
                  <a:srgbClr val="660000"/>
                </a:solidFill>
                <a:latin typeface="Georgia"/>
              </a:rPr>
              <a:t>не могут быть зафиксированы в виде законов науки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00"/>
                </a:solidFill>
                <a:latin typeface="Georgia"/>
              </a:rPr>
              <a:t>•</a:t>
            </a:r>
            <a:r>
              <a:rPr b="0" lang="ru-RU" sz="2600" spc="-1" strike="noStrike">
                <a:solidFill>
                  <a:srgbClr val="660000"/>
                </a:solidFill>
                <a:latin typeface="Georgia"/>
              </a:rPr>
              <a:t>	</a:t>
            </a:r>
            <a:r>
              <a:rPr b="0" lang="ru-RU" sz="2600" spc="-1" strike="noStrike">
                <a:solidFill>
                  <a:srgbClr val="660000"/>
                </a:solidFill>
                <a:latin typeface="Georgia"/>
              </a:rPr>
              <a:t>не могут быть проверены в опыте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457200" y="10522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Понятие и структура философии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00"/>
                </a:solidFill>
                <a:latin typeface="Georgia"/>
              </a:rPr>
              <a:t>Раскрытие</a:t>
            </a: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  – обнаружение скрытого, соединяющее рациональные процедуры познания с интуицией и озарени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00"/>
                </a:solidFill>
                <a:latin typeface="Georgia"/>
              </a:rPr>
              <a:t>Философия превращает эзотерическое в экзотерическое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1332000" y="4076640"/>
            <a:ext cx="6553080" cy="865080"/>
          </a:xfrm>
          <a:prstGeom prst="rect">
            <a:avLst/>
          </a:prstGeom>
          <a:noFill/>
          <a:ln w="1908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8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46800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Понятие и структура философии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83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Структура философии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57200" y="1773360"/>
          <a:ext cx="8291520" cy="4457520"/>
        </p:xfrm>
        <a:graphic>
          <a:graphicData uri="http://schemas.openxmlformats.org/drawingml/2006/table">
            <a:tbl>
              <a:tblPr/>
              <a:tblGrid>
                <a:gridCol w="2763720"/>
                <a:gridCol w="2764080"/>
                <a:gridCol w="2763720"/>
              </a:tblGrid>
              <a:tr h="8906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660000"/>
                          </a:solidFill>
                          <a:latin typeface="Georgia"/>
                        </a:rPr>
                        <a:t>Философ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660000"/>
                          </a:solidFill>
                          <a:latin typeface="Georgia"/>
                        </a:rPr>
                        <a:t>Пропедевт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00"/>
                          </a:solidFill>
                          <a:latin typeface="Georgia"/>
                        </a:rPr>
                        <a:t>Лог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00"/>
                          </a:solidFill>
                          <a:latin typeface="Georgia"/>
                        </a:rPr>
                        <a:t>История философ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660000"/>
                          </a:solidFill>
                          <a:latin typeface="Georgia"/>
                        </a:rPr>
                        <a:t>Собственно философ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00"/>
                          </a:solidFill>
                          <a:latin typeface="Georgia"/>
                        </a:rPr>
                        <a:t>Теоретическая философ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00"/>
                          </a:solidFill>
                          <a:latin typeface="Georgia"/>
                        </a:rPr>
                        <a:t>Практическая философ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</a:tr>
              <a:tr h="138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660000"/>
                          </a:solidFill>
                          <a:latin typeface="Georgia"/>
                        </a:rPr>
                        <a:t>Прикладная философ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00"/>
                          </a:solidFill>
                          <a:latin typeface="Georgia"/>
                        </a:rPr>
                        <a:t>Философия отдельных областей человеческой деятель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12" name="Picture 73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79567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Философская пропедевтика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5280" y="292428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i="1" lang="ru-RU" sz="2600" spc="-1" strike="noStrike">
                <a:solidFill>
                  <a:srgbClr val="660000"/>
                </a:solidFill>
                <a:latin typeface="Georgia"/>
              </a:rPr>
              <a:t>Философская пропедевтика</a:t>
            </a:r>
            <a:r>
              <a:rPr b="0" lang="ru-RU" sz="2600" spc="-1" strike="noStrike">
                <a:solidFill>
                  <a:srgbClr val="660000"/>
                </a:solidFill>
                <a:latin typeface="Georgia"/>
              </a:rPr>
              <a:t>  - науки, содержащие знания, необходимые для любого философского размышления и исследования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8120" indent="-533160">
              <a:lnSpc>
                <a:spcPct val="100000"/>
              </a:lnSpc>
              <a:spcBef>
                <a:spcPts val="825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ru-RU" sz="2200" spc="-1" strike="noStrike">
                <a:solidFill>
                  <a:srgbClr val="660000"/>
                </a:solidFill>
                <a:latin typeface="Georgia"/>
              </a:rPr>
              <a:t>логика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8120" indent="-533160">
              <a:lnSpc>
                <a:spcPct val="100000"/>
              </a:lnSpc>
              <a:spcBef>
                <a:spcPts val="825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ru-RU" sz="2200" spc="-1" strike="noStrike">
                <a:solidFill>
                  <a:srgbClr val="660000"/>
                </a:solidFill>
                <a:latin typeface="Georgia"/>
              </a:rPr>
              <a:t>история философи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7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Понятие и структура философ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79567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Теоретическая философия</a:t>
            </a: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7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Понятие и структура философ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611280" y="2708280"/>
            <a:ext cx="7993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00"/>
                </a:solidFill>
                <a:latin typeface="Times New Roman"/>
              </a:rPr>
              <a:t>Теоретическая философия</a:t>
            </a: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 – учение о бытии, его видах и их познани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0"/>
          <p:cNvSpPr/>
          <p:nvPr/>
        </p:nvSpPr>
        <p:spPr>
          <a:xfrm>
            <a:off x="1476360" y="3645000"/>
            <a:ext cx="7488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2520" indent="-452520">
              <a:lnSpc>
                <a:spcPct val="90000"/>
              </a:lnSpc>
              <a:spcBef>
                <a:spcPts val="550"/>
              </a:spcBef>
              <a:buClr>
                <a:srgbClr val="66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660000"/>
                </a:solidFill>
                <a:latin typeface="Times New Roman"/>
              </a:rPr>
              <a:t>онтология</a:t>
            </a:r>
            <a:r>
              <a:rPr b="0" lang="ru-RU" sz="2200" spc="-1" strike="noStrike">
                <a:solidFill>
                  <a:srgbClr val="660000"/>
                </a:solidFill>
                <a:latin typeface="Times New Roman"/>
              </a:rPr>
              <a:t> – учение о бытии и его видах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550"/>
              </a:spcBef>
              <a:buClr>
                <a:srgbClr val="66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660000"/>
                </a:solidFill>
                <a:latin typeface="Times New Roman"/>
              </a:rPr>
              <a:t>метафизика</a:t>
            </a:r>
            <a:r>
              <a:rPr b="0" lang="ru-RU" sz="2200" spc="-1" strike="noStrike">
                <a:solidFill>
                  <a:srgbClr val="660000"/>
                </a:solidFill>
                <a:latin typeface="Times New Roman"/>
              </a:rPr>
              <a:t> – учение о первые причинах бытия и его последних целях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550"/>
              </a:spcBef>
              <a:buClr>
                <a:srgbClr val="66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660000"/>
                </a:solidFill>
                <a:latin typeface="Times New Roman"/>
              </a:rPr>
              <a:t>теория познания</a:t>
            </a:r>
            <a:r>
              <a:rPr b="0" lang="ru-RU" sz="2200" spc="-1" strike="noStrike">
                <a:solidFill>
                  <a:srgbClr val="660000"/>
                </a:solidFill>
                <a:latin typeface="Times New Roman"/>
              </a:rPr>
              <a:t> – учение о возможности и характеристиках познания бытия в рамках субъект-объектных отношений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550"/>
              </a:spcBef>
              <a:buClr>
                <a:srgbClr val="66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660000"/>
                </a:solidFill>
                <a:latin typeface="Times New Roman"/>
              </a:rPr>
              <a:t>аксиология</a:t>
            </a:r>
            <a:r>
              <a:rPr b="0" lang="ru-RU" sz="2200" spc="-1" strike="noStrike">
                <a:solidFill>
                  <a:srgbClr val="660000"/>
                </a:solidFill>
                <a:latin typeface="Times New Roman"/>
              </a:rPr>
              <a:t> – учение о ценностях как виде бытия и их роли в познани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1699920"/>
            <a:ext cx="79567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Практическая философия</a:t>
            </a: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828036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00"/>
                </a:solidFill>
                <a:latin typeface="Times New Roman"/>
              </a:rPr>
              <a:t>Практическая философия</a:t>
            </a: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60000"/>
                </a:solidFill>
                <a:latin typeface="Times New Roman"/>
              </a:rPr>
              <a:t>–</a:t>
            </a: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 учение о предельно общих характеристиках человеческой деятельности, основанное на универсальных ценностях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1042920" y="3716280"/>
            <a:ext cx="7488360" cy="27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00"/>
                </a:solidFill>
                <a:latin typeface="Times New Roman"/>
              </a:rPr>
              <a:t>этика</a:t>
            </a:r>
            <a:r>
              <a:rPr b="0" lang="ru-RU" sz="2000" spc="-1" strike="noStrike">
                <a:solidFill>
                  <a:srgbClr val="660000"/>
                </a:solidFill>
                <a:latin typeface="Times New Roman"/>
              </a:rPr>
              <a:t> – учение о человеческой деятельности, основанной на ценности добр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00"/>
                </a:solidFill>
                <a:latin typeface="Times New Roman"/>
              </a:rPr>
              <a:t>эстетика</a:t>
            </a:r>
            <a:r>
              <a:rPr b="0" lang="ru-RU" sz="2000" spc="-1" strike="noStrike">
                <a:solidFill>
                  <a:srgbClr val="660000"/>
                </a:solidFill>
                <a:latin typeface="Times New Roman"/>
              </a:rPr>
              <a:t> – учение о человеческой деятельности, основанной на ценности красоты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00"/>
                </a:solidFill>
                <a:latin typeface="Times New Roman"/>
              </a:rPr>
              <a:t>социальная философия</a:t>
            </a:r>
            <a:r>
              <a:rPr b="0" lang="ru-RU" sz="2000" spc="-1" strike="noStrike">
                <a:solidFill>
                  <a:srgbClr val="660000"/>
                </a:solidFill>
                <a:latin typeface="Times New Roman"/>
              </a:rPr>
              <a:t> – учение о человеческой деятельности, основанной на ценности свободы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00"/>
                </a:solidFill>
                <a:latin typeface="Times New Roman"/>
              </a:rPr>
              <a:t>философская антропология</a:t>
            </a:r>
            <a:r>
              <a:rPr b="0" lang="ru-RU" sz="2000" spc="-1" strike="noStrike">
                <a:solidFill>
                  <a:srgbClr val="660000"/>
                </a:solidFill>
                <a:latin typeface="Times New Roman"/>
              </a:rPr>
              <a:t> – учение о человеческой деятельности, основанной на ценности гуман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Понятие и структура философ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640" y="1773000"/>
            <a:ext cx="79567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Прикладная философия 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8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Понятие и структура философ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4920" y="2492280"/>
            <a:ext cx="828036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00"/>
                </a:solidFill>
                <a:latin typeface="Times New Roman"/>
              </a:rPr>
              <a:t>Прикладная философия</a:t>
            </a: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 – философские учения об отдельных областях человеческой деятель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1476360" y="3357720"/>
            <a:ext cx="727092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Times New Roman"/>
              </a:rPr>
              <a:t>философия философии – метафилософия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Times New Roman"/>
              </a:rPr>
              <a:t>философия наук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Times New Roman"/>
              </a:rPr>
              <a:t>философия культуры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Times New Roman"/>
              </a:rPr>
              <a:t>философия прав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Times New Roman"/>
              </a:rPr>
              <a:t>философия религи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Times New Roman"/>
              </a:rPr>
              <a:t>философия образования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Times New Roman"/>
              </a:rPr>
              <a:t>прикладная этик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Times New Roman"/>
              </a:rPr>
              <a:t>эстетика промышленной деятельности (дизайн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Times New Roman"/>
              </a:rPr>
              <a:t>И ТАК ДАЛЕЕ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7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8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Понятие и структура философ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250920" y="2781360"/>
            <a:ext cx="864216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Структура философии науки определяется структурой философии в применении к науке, ее объектам и ее развити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795672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2. Философия науки как прикладная философия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Философия науки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 есть прикладная философия, состоящая в применении общих философских знаний к науке в целом и ее развит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539640" y="2492280"/>
            <a:ext cx="8136000" cy="1441440"/>
          </a:xfrm>
          <a:prstGeom prst="rect">
            <a:avLst/>
          </a:prstGeom>
          <a:noFill/>
          <a:ln w="1908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7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795672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Лекция 1. Введение в философию науки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Понятие и структура философ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Философия науки как прикладная философия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859280" y="189000"/>
            <a:ext cx="392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5" descr="logo_ratio"/>
          <p:cNvPicPr/>
          <p:nvPr/>
        </p:nvPicPr>
        <p:blipFill>
          <a:blip r:embed="rId1"/>
          <a:stretch/>
        </p:blipFill>
        <p:spPr>
          <a:xfrm>
            <a:off x="179280" y="142920"/>
            <a:ext cx="649440" cy="649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logo univ"/>
          <p:cNvPicPr/>
          <p:nvPr/>
        </p:nvPicPr>
        <p:blipFill>
          <a:blip r:embed="rId2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79567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Aft>
                <a:spcPts val="90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I. Пропедевтика философии науки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10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Georgia"/>
              <a:buAutoNum type="arabicPeriod"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i="1" lang="ru-RU" sz="2400" spc="-1" strike="noStrike">
                <a:solidFill>
                  <a:srgbClr val="660000"/>
                </a:solidFill>
                <a:latin typeface="Georgia"/>
              </a:rPr>
              <a:t>Логика науки</a:t>
            </a: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 – учение о логической структуре научного знания и средствах обоснования научных полож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24440" indent="-527760">
              <a:lnSpc>
                <a:spcPct val="100000"/>
              </a:lnSpc>
              <a:spcBef>
                <a:spcPts val="601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ru-RU" sz="1600" spc="-1" strike="noStrike">
                <a:solidFill>
                  <a:srgbClr val="660000"/>
                </a:solidFill>
                <a:latin typeface="Georgia"/>
              </a:rPr>
              <a:t>Какова структура научной теории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324440" indent="-527760">
              <a:lnSpc>
                <a:spcPct val="100000"/>
              </a:lnSpc>
              <a:spcBef>
                <a:spcPts val="601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ru-RU" sz="1600" spc="-1" strike="noStrike">
                <a:solidFill>
                  <a:srgbClr val="660000"/>
                </a:solidFill>
                <a:latin typeface="Georgia"/>
              </a:rPr>
              <a:t>Какова структура языка науки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324440" indent="-527760">
              <a:lnSpc>
                <a:spcPct val="100000"/>
              </a:lnSpc>
              <a:spcBef>
                <a:spcPts val="601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ru-RU" sz="1600" spc="-1" strike="noStrike">
                <a:solidFill>
                  <a:srgbClr val="660000"/>
                </a:solidFill>
                <a:latin typeface="Georgia"/>
              </a:rPr>
              <a:t>Каковы логические отношения между эмпирическими и теоретическими высказываниями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324440" indent="-527760">
              <a:lnSpc>
                <a:spcPct val="100000"/>
              </a:lnSpc>
              <a:spcBef>
                <a:spcPts val="601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ru-RU" sz="1600" spc="-1" strike="noStrike">
                <a:solidFill>
                  <a:srgbClr val="660000"/>
                </a:solidFill>
                <a:latin typeface="Georgia"/>
              </a:rPr>
              <a:t>Каковы логические отношения между эмпирическими и теоретическими терминами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324440" indent="-527760">
              <a:lnSpc>
                <a:spcPct val="100000"/>
              </a:lnSpc>
              <a:spcBef>
                <a:spcPts val="601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ru-RU" sz="1600" spc="-1" strike="noStrike">
                <a:solidFill>
                  <a:srgbClr val="660000"/>
                </a:solidFill>
                <a:latin typeface="Georgia"/>
              </a:rPr>
              <a:t>Каковы логические отношения между научными теориями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324440" indent="-527760">
              <a:lnSpc>
                <a:spcPct val="100000"/>
              </a:lnSpc>
              <a:spcBef>
                <a:spcPts val="601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ru-RU" sz="1600" spc="-1" strike="noStrike">
                <a:solidFill>
                  <a:srgbClr val="660000"/>
                </a:solidFill>
                <a:latin typeface="Georgia"/>
              </a:rPr>
              <a:t>Какова роль дедуктивных и недедуктивных рассуждений в обосновании утверждений науки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324440" indent="-527760">
              <a:lnSpc>
                <a:spcPct val="100000"/>
              </a:lnSpc>
              <a:spcBef>
                <a:spcPts val="601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ru-RU" sz="1600" spc="-1" strike="noStrike">
                <a:solidFill>
                  <a:srgbClr val="660000"/>
                </a:solidFill>
                <a:latin typeface="Georgia"/>
              </a:rPr>
              <a:t>Каковы возможные модели обоснования и опровержения научных высказывани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68360" y="2781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2. </a:t>
            </a: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История философии науки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 – учение о эволюции философских концепций нау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8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Философия науки как прикладная философ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7956720" cy="50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Aft>
                <a:spcPts val="90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II. Теоретическая философия науки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8"/>
          <p:cNvSpPr/>
          <p:nvPr/>
        </p:nvSpPr>
        <p:spPr>
          <a:xfrm>
            <a:off x="468360" y="2708280"/>
            <a:ext cx="82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1. </a:t>
            </a: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Онтология науки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 – учение об объектах науки и их вид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971640" y="3933720"/>
            <a:ext cx="79930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Что является объектом наук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В чем различие предметной области исследования и объекта исследовани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Каков онтологический статус абстракций и идеализаций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Каковы онтологические предпосылки языка наук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Философия науки как прикладная философ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9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Философия науки как прикладная философ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684360" y="2133720"/>
            <a:ext cx="7775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2. </a:t>
            </a: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Метафизика науки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 – учение о первых причинах науки и ее конечных цел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2"/>
          <p:cNvSpPr/>
          <p:nvPr/>
        </p:nvSpPr>
        <p:spPr>
          <a:xfrm>
            <a:off x="971640" y="3357720"/>
            <a:ext cx="79200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Wingdings" charset="2"/>
              <a:buChar char="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Почему возникает наук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Wingdings" charset="2"/>
              <a:buChar char="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Какова конечная цель науки в космосе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Wingdings" charset="2"/>
              <a:buChar char="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Какие причины в мире поддерживают ее существование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Wingdings" charset="2"/>
              <a:buChar char="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Каково предназначение науки в общем процессе жизни космоса и человека в нем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Wingdings" charset="2"/>
              <a:buChar char="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Возможен ли научный прогресс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Wingdings" charset="2"/>
              <a:buChar char="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Возможно ли прекращение развития науки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Wingdings" charset="2"/>
              <a:buChar char="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В чем состоит оправдание науки как вида человеческой деятельност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8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Философия науки как прикладная философ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395280" y="1844640"/>
            <a:ext cx="828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Times New Roman"/>
              </a:rPr>
              <a:t>3. </a:t>
            </a:r>
            <a:r>
              <a:rPr b="0" i="1" lang="ru-RU" sz="2400" spc="-1" strike="noStrike">
                <a:solidFill>
                  <a:srgbClr val="660000"/>
                </a:solidFill>
                <a:latin typeface="Times New Roman"/>
              </a:rPr>
              <a:t>Теория научного познания</a:t>
            </a:r>
            <a:r>
              <a:rPr b="0" lang="ru-RU" sz="2400" spc="-1" strike="noStrike">
                <a:solidFill>
                  <a:srgbClr val="660000"/>
                </a:solidFill>
                <a:latin typeface="Times New Roman"/>
              </a:rPr>
              <a:t> – учение о взаимодействии субъекта и объекта научного познания и характеристиках научного зна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971640" y="2924280"/>
            <a:ext cx="799308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marL="452520" indent="-452520">
              <a:lnSpc>
                <a:spcPct val="90000"/>
              </a:lnSpc>
              <a:spcBef>
                <a:spcPts val="34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00"/>
                </a:solidFill>
                <a:latin typeface="Georgia"/>
              </a:rPr>
              <a:t>Каково взаимодействие субъекта и объекта научного познания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34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00"/>
                </a:solidFill>
                <a:latin typeface="Georgia"/>
              </a:rPr>
              <a:t>Каким образом изменяются субъект и объект научного познания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34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00"/>
                </a:solidFill>
                <a:latin typeface="Georgia"/>
              </a:rPr>
              <a:t>Какой вклад вносит наука в познаваемость мира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34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00"/>
                </a:solidFill>
                <a:latin typeface="Georgia"/>
              </a:rPr>
              <a:t>Каковы пределы научного познания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34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00"/>
                </a:solidFill>
                <a:latin typeface="Georgia"/>
              </a:rPr>
              <a:t>Каким образом проводится линия демаркации научного и ненаучного познания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34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00"/>
                </a:solidFill>
                <a:latin typeface="Georgia"/>
              </a:rPr>
              <a:t>Какова структура научного знания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34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00"/>
                </a:solidFill>
                <a:latin typeface="Georgia"/>
              </a:rPr>
              <a:t>Какова структура научного исследования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34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00"/>
                </a:solidFill>
                <a:latin typeface="Georgia"/>
              </a:rPr>
              <a:t>Каков способ взаимодействия теоретического и эмпирического уровня научного познания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34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00"/>
                </a:solidFill>
                <a:latin typeface="Georgia"/>
              </a:rPr>
              <a:t>Как возможна научная истина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34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00"/>
                </a:solidFill>
                <a:latin typeface="Georgia"/>
              </a:rPr>
              <a:t>Каковы способы обоснования и опровержения научных высказываний и систем высказываний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34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00"/>
                </a:solidFill>
                <a:latin typeface="Georgia"/>
              </a:rPr>
              <a:t>В чем состоит научная рациональность и каково ее отношение к другим видам рациональности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34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00"/>
                </a:solidFill>
                <a:latin typeface="Georgia"/>
              </a:rPr>
              <a:t>Что такое новое знание и как возможно порождение нового знания в науке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34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00"/>
                </a:solidFill>
                <a:latin typeface="Georgia"/>
              </a:rPr>
              <a:t>Какую роль играет иррациональная компонента субъекта познания в порождении нового знания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3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4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Философия науки как прикладная философ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468360" y="2060640"/>
            <a:ext cx="8280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4. </a:t>
            </a: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Аксиология научного познания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 – учение о роли ценностей в развитии нау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971640" y="3213000"/>
            <a:ext cx="799308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Wingdings" charset="2"/>
              <a:buChar char="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Каковы базисные ценности наук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Wingdings" charset="2"/>
              <a:buChar char="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Возможна ли наука свободная от ценностей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Wingdings" charset="2"/>
              <a:buChar char="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В чем состоит регулятивная роль истины как главной ценности научного познани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Wingdings" charset="2"/>
              <a:buChar char="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Возможно ли рассматривать науку как ценность? Сциентизм и антисциентиз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79567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Aft>
                <a:spcPts val="90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III. Практическая философия науки: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8"/>
          <p:cNvSpPr/>
          <p:nvPr/>
        </p:nvSpPr>
        <p:spPr>
          <a:xfrm>
            <a:off x="468360" y="2997360"/>
            <a:ext cx="8280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1. </a:t>
            </a: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Этика науки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 – учение о роли нравственных ценностей в развитии науки и ее приложен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1116000" y="4076640"/>
            <a:ext cx="78487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Являются ли нравственные ценности регуляторами научной деятельност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Могут ли нравственные ценности составлять мотивы научной деятельност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Налагают ли нравственные ценности ограничения на применения науки в практической жизни людей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Существуют ли нравственные ограничения в области теоретической наук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Философия науки как прикладная философ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8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Философия науки как прикладная философ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395280" y="2060640"/>
            <a:ext cx="8280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2. </a:t>
            </a: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Эстетика науки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 – учение о красоте научных знаний как эвристическом средстве построения и обоснования научных теор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1116000" y="3645000"/>
            <a:ext cx="78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Wingdings" charset="2"/>
              <a:buChar char="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Может ли красота научных положений и структур свидетельствовать об их истинност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Wingdings" charset="2"/>
              <a:buChar char="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Каково соотношение художественного и научного творчеств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Wingdings" charset="2"/>
              <a:buChar char="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Какую роль играет интуиция прекрасного в порождении научных знаний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Wingdings" charset="2"/>
              <a:buChar char="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Есть ли место гению в науке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8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Философия науки как прикладная философ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0"/>
          <p:cNvSpPr/>
          <p:nvPr/>
        </p:nvSpPr>
        <p:spPr>
          <a:xfrm>
            <a:off x="468360" y="1844640"/>
            <a:ext cx="8280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3. </a:t>
            </a: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Социальная философия науки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 – учение о взаимодействии субъекта научного познания с другими субъектами в социальном контекст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971640" y="3284640"/>
            <a:ext cx="79930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Может ли быть общество субъектом научного познани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Какова зависимость субъекта научного познания от типа общества, в котором он живет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Зависит ли научная истина от обществ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Какую роль научное знание играет в развитии обществ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Какова социальная структура наук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Каково соотношение традиций и революций в развитии наук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Какова роль в развитии общества сциентизма и антисциентизм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5" descr="logo_ratio"/>
          <p:cNvPicPr/>
          <p:nvPr/>
        </p:nvPicPr>
        <p:blipFill>
          <a:blip r:embed="rId1"/>
          <a:stretch/>
        </p:blipFill>
        <p:spPr>
          <a:xfrm>
            <a:off x="179280" y="142920"/>
            <a:ext cx="649440" cy="6490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logo univ"/>
          <p:cNvPicPr/>
          <p:nvPr/>
        </p:nvPicPr>
        <p:blipFill>
          <a:blip r:embed="rId2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8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Философия науки как прикладная философ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468360" y="206064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4. </a:t>
            </a: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Философская антропология науки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 – учение о субъекте научного знания как челове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1"/>
          <p:cNvSpPr/>
          <p:nvPr/>
        </p:nvSpPr>
        <p:spPr>
          <a:xfrm>
            <a:off x="971640" y="3141720"/>
            <a:ext cx="79930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Wingdings" charset="2"/>
              <a:buChar char="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Влечет ли за собой развитие науки развитие человек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Wingdings" charset="2"/>
              <a:buChar char="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Каково влияние личности ученого на развитие наук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Wingdings" charset="2"/>
              <a:buChar char="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Каково влияние науки и научных знаний на развитие человек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Wingdings" charset="2"/>
              <a:buChar char="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Основана научная картина мира на особенностях человеческого субъект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Font typeface="Wingdings" charset="2"/>
              <a:buChar char="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Georgia"/>
              </a:rPr>
              <a:t>Какова роль сознательной и бессознательной компоненты психики человека в развитии наук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79567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Литература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75"/>
              </a:spcBef>
              <a:buClr>
                <a:srgbClr val="660000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Алексеев П.В., Панин А.В</a:t>
            </a: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. Философия: Учебник. – 3-е изд. – М.: Проспект, 2003. – С. 4-7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675"/>
              </a:spcBef>
              <a:buClr>
                <a:srgbClr val="660000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Брюшинкин В.Н</a:t>
            </a: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. Логика, мышление, информация. -Л.: Изд-во ЛГУ, 1988. С. 6-1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675"/>
              </a:spcBef>
              <a:buClr>
                <a:srgbClr val="660000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икифоров А.Л</a:t>
            </a: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. Философия науки: история и методология. - М.: Дом интеллектуальной книги, 1998. С. 9-1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675"/>
              </a:spcBef>
              <a:buClr>
                <a:srgbClr val="660000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Ракитов А.И</a:t>
            </a: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. Философские проблемы науки. – М.: Мысль, 1977. С. 18-5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675"/>
              </a:spcBef>
              <a:buClr>
                <a:srgbClr val="660000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Степин В.С</a:t>
            </a: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. Философия // Новая философская энциклопедия: В 4 т. Т. 4. – М.: Мысль, 2001. - С. 195-2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675"/>
              </a:spcBef>
              <a:buClr>
                <a:srgbClr val="660000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e0000"/>
                </a:solidFill>
                <a:latin typeface="Georgia"/>
              </a:rPr>
              <a:t>Степин В.С. Философия науки. Общие проблемы: учебник для аспирантов и соискателей ученой степени кандидата наук. – М.: Гардарики, 2006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675"/>
              </a:spcBef>
              <a:buClr>
                <a:srgbClr val="660000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Философия в современном мире. Философия и наука. /Под ред. Л.Н. Митрохина, Э.Г. Юдина, Н.С. Юлиной. –М. : Наука, 1972. С. 146-249. (Статьи Э.Г. Юдина, В.А. Лекторского, В.С. Швырева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675"/>
              </a:spcBef>
              <a:buClr>
                <a:srgbClr val="660000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Философия науки. // Новая философская энциклопедия. – М.: Мысль, 2001. Т. IV. С. 218-22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468360" y="1916280"/>
          <a:ext cx="8229600" cy="2232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16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6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Философское учение о наук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Философия нау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Методология нау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Line 13"/>
          <p:cNvSpPr/>
          <p:nvPr/>
        </p:nvSpPr>
        <p:spPr>
          <a:xfrm flipH="1">
            <a:off x="2627280" y="2781360"/>
            <a:ext cx="1944720" cy="647640"/>
          </a:xfrm>
          <a:prstGeom prst="line">
            <a:avLst/>
          </a:prstGeom>
          <a:ln w="1584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14"/>
          <p:cNvSpPr/>
          <p:nvPr/>
        </p:nvSpPr>
        <p:spPr>
          <a:xfrm>
            <a:off x="4572000" y="2781360"/>
            <a:ext cx="1871640" cy="647640"/>
          </a:xfrm>
          <a:prstGeom prst="line">
            <a:avLst/>
          </a:prstGeom>
          <a:ln w="1584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6"/>
          <p:cNvSpPr/>
          <p:nvPr/>
        </p:nvSpPr>
        <p:spPr>
          <a:xfrm>
            <a:off x="539640" y="458136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Tahoma"/>
              </a:rPr>
              <a:t>Философия науки – прикладная философ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7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Философия науки как прикладная философ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8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icture 19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79567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1. Понятие и структура философии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8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784836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00"/>
                </a:solidFill>
                <a:latin typeface="Times New Roman"/>
              </a:rPr>
              <a:t>Философия науки</a:t>
            </a: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 есть прикладная философия, состоящая в применении общих философских знаний к науке в целом и ее развит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1187280" y="3716280"/>
            <a:ext cx="7344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04960" indent="-5400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Font typeface="Times New Roman"/>
              <a:buChar char="•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Times New Roman"/>
              </a:rPr>
              <a:t>Что такое прикладная философи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04960" indent="-5400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Font typeface="Times New Roman"/>
              <a:buChar char="•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Times New Roman"/>
              </a:rPr>
              <a:t>Какова структура общих философских знаний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04960" indent="-5400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Font typeface="Times New Roman"/>
              <a:buChar char="•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Times New Roman"/>
              </a:rPr>
              <a:t>Какая структура философии науки как прикладной философи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Понятие и структура философии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8"/>
          <p:cNvSpPr/>
          <p:nvPr/>
        </p:nvSpPr>
        <p:spPr>
          <a:xfrm>
            <a:off x="395280" y="2781360"/>
            <a:ext cx="835344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Times New Roman"/>
              </a:rPr>
              <a:t>Философия</a:t>
            </a:r>
            <a:r>
              <a:rPr b="0" lang="ru-RU" sz="3200" spc="-1" strike="noStrike">
                <a:solidFill>
                  <a:srgbClr val="660000"/>
                </a:solidFill>
                <a:latin typeface="Times New Roman"/>
              </a:rPr>
              <a:t> – это систематическая рефлексивная духовная деятельность,  направленная на раскрытие предельных оснований жизни мира и челове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900000" y="2637000"/>
            <a:ext cx="7272360" cy="2087280"/>
          </a:xfrm>
          <a:prstGeom prst="rect">
            <a:avLst/>
          </a:prstGeom>
          <a:noFill/>
          <a:ln w="1908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1988640"/>
            <a:ext cx="7956720" cy="2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Анализ</a:t>
            </a: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660000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Мир</a:t>
            </a: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 - совокупность всего </a:t>
            </a: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возможного</a:t>
            </a: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 быт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4760" indent="-53316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00"/>
                </a:solidFill>
                <a:latin typeface="Georgia"/>
              </a:rPr>
              <a:t>то, что было, то, что могло быть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4760" indent="-53316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00"/>
                </a:solidFill>
                <a:latin typeface="Georgia"/>
              </a:rPr>
              <a:t>то, что есть, то, что  может быть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4760" indent="-53316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00"/>
                </a:solidFill>
                <a:latin typeface="Georgia"/>
              </a:rPr>
              <a:t>то, что будет, то, что возможно буде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660000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Человек</a:t>
            </a: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 – разумная чувствующая часть мир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4760" indent="-53316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00"/>
                </a:solidFill>
                <a:latin typeface="Georgia"/>
              </a:rPr>
              <a:t>Разум</a:t>
            </a:r>
            <a:r>
              <a:rPr b="0" lang="ru-RU" sz="1600" spc="-1" strike="noStrike">
                <a:solidFill>
                  <a:srgbClr val="660000"/>
                </a:solidFill>
                <a:latin typeface="Georgia"/>
              </a:rPr>
              <a:t> - способность, позволяющая части мира (идеально) вмещать в себя весь мир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4760" indent="-53316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00"/>
                </a:solidFill>
                <a:latin typeface="Georgia"/>
              </a:rPr>
              <a:t>Человек</a:t>
            </a:r>
            <a:r>
              <a:rPr b="0" lang="ru-RU" sz="1600" spc="-1" strike="noStrike">
                <a:solidFill>
                  <a:srgbClr val="660000"/>
                </a:solidFill>
                <a:latin typeface="Georgia"/>
              </a:rPr>
              <a:t> - часть мира, наделенная </a:t>
            </a:r>
            <a:r>
              <a:rPr b="0" i="1" lang="ru-RU" sz="1600" spc="-1" strike="noStrike">
                <a:solidFill>
                  <a:srgbClr val="660000"/>
                </a:solidFill>
                <a:latin typeface="Georgia"/>
              </a:rPr>
              <a:t>чувствами</a:t>
            </a:r>
            <a:r>
              <a:rPr b="0" lang="ru-RU" sz="1600" spc="-1" strike="noStrike">
                <a:solidFill>
                  <a:srgbClr val="660000"/>
                </a:solidFill>
                <a:latin typeface="Georgia"/>
              </a:rPr>
              <a:t> и обладающая способностью к </a:t>
            </a:r>
            <a:r>
              <a:rPr b="0" i="1" lang="ru-RU" sz="1600" spc="-1" strike="noStrike">
                <a:solidFill>
                  <a:srgbClr val="660000"/>
                </a:solidFill>
                <a:latin typeface="Georgia"/>
              </a:rPr>
              <a:t>рефлексии</a:t>
            </a:r>
            <a:r>
              <a:rPr b="0" lang="ru-RU" sz="1600" spc="-1" strike="noStrike">
                <a:solidFill>
                  <a:srgbClr val="660000"/>
                </a:solidFill>
                <a:latin typeface="Georgi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4760" indent="-53316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00"/>
                </a:solidFill>
                <a:latin typeface="Georgia"/>
              </a:rPr>
              <a:t>Рефлексия</a:t>
            </a:r>
            <a:r>
              <a:rPr b="0" lang="ru-RU" sz="1600" spc="-1" strike="noStrike">
                <a:solidFill>
                  <a:srgbClr val="660000"/>
                </a:solidFill>
                <a:latin typeface="Georgia"/>
              </a:rPr>
              <a:t> - способность размышлять по поводу своего собственного мышления («Познай самого себя!»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80000"/>
              </a:lnSpc>
              <a:spcBef>
                <a:spcPts val="524"/>
              </a:spcBef>
              <a:buClr>
                <a:srgbClr val="660000"/>
              </a:buClr>
              <a:buSzPct val="65000"/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0000"/>
                </a:solidFill>
                <a:latin typeface="Georgia"/>
              </a:rPr>
              <a:t>Рефлексия</a:t>
            </a:r>
            <a:r>
              <a:rPr b="0" lang="ru-RU" sz="1400" spc="-1" strike="noStrike">
                <a:solidFill>
                  <a:srgbClr val="660000"/>
                </a:solidFill>
                <a:latin typeface="Georgia"/>
              </a:rPr>
              <a:t> отличает человека от животного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4760" indent="-53316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00"/>
                </a:solidFill>
                <a:latin typeface="Georgia"/>
              </a:rPr>
              <a:t>Чувства</a:t>
            </a:r>
            <a:r>
              <a:rPr b="0" lang="ru-RU" sz="1600" spc="-1" strike="noStrike">
                <a:solidFill>
                  <a:srgbClr val="660000"/>
                </a:solidFill>
                <a:latin typeface="Georgia"/>
              </a:rPr>
              <a:t> – непосредственная связь разумного существа с внешним миром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80000"/>
              </a:lnSpc>
              <a:spcBef>
                <a:spcPts val="524"/>
              </a:spcBef>
              <a:buClr>
                <a:srgbClr val="660000"/>
              </a:buClr>
              <a:buSzPct val="65000"/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00"/>
                </a:solidFill>
                <a:latin typeface="Georgia"/>
              </a:rPr>
              <a:t>Чувства отличали бы человека от ангелов и других духовных сущест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75"/>
              </a:spcBef>
              <a:buClr>
                <a:srgbClr val="660000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Жизнь</a:t>
            </a:r>
            <a:r>
              <a:rPr b="0" lang="ru-RU" sz="1800" spc="-1" strike="noStrike">
                <a:solidFill>
                  <a:srgbClr val="660000"/>
                </a:solidFill>
                <a:latin typeface="Georgia"/>
              </a:rPr>
              <a:t>, потому что человек – живая часть мир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7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Понятие и структура философ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2340000" y="256536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Verdana"/>
              </a:rPr>
              <a:t>Духовная деятель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8"/>
          <p:cNvSpPr/>
          <p:nvPr/>
        </p:nvSpPr>
        <p:spPr>
          <a:xfrm flipH="1">
            <a:off x="2050920" y="2997360"/>
            <a:ext cx="2376720" cy="50472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4427640" y="2997360"/>
            <a:ext cx="2376360" cy="50472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971640" y="3573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Verdana"/>
              </a:rPr>
              <a:t>Теоретическ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6059520" y="3573360"/>
            <a:ext cx="192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00"/>
                </a:solidFill>
                <a:latin typeface="Verdana"/>
              </a:rPr>
              <a:t>Практическ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826920" y="4437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Verdana"/>
              </a:rPr>
              <a:t>создает зн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5362560" y="4365720"/>
            <a:ext cx="33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Verdana"/>
              </a:rPr>
              <a:t>создает правила поведения,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Verdana"/>
              </a:rPr>
              <a:t>образцы, планы и т.п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6"/>
          <p:cNvSpPr/>
          <p:nvPr/>
        </p:nvSpPr>
        <p:spPr>
          <a:xfrm>
            <a:off x="2050920" y="3933720"/>
            <a:ext cx="0" cy="43344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8"/>
          <p:cNvSpPr/>
          <p:nvPr/>
        </p:nvSpPr>
        <p:spPr>
          <a:xfrm>
            <a:off x="7020000" y="3933720"/>
            <a:ext cx="0" cy="43344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20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00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Понятие и структура философии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79567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В </a:t>
            </a: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философии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 применяются: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5280" y="3284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рациональные логические методы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общенаучные процедуры и приемы исследовани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рациональная и иррациональная вер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эстетическая рефлекси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этические соображ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7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Понятие и структура философ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8360" y="2636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Философия не является науко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Философия - </a:t>
            </a: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синтетическая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 духовная деятельнос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3348000" y="171360"/>
            <a:ext cx="54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1. Введение в философию нау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5" descr="logo_ratio"/>
          <p:cNvPicPr/>
          <p:nvPr/>
        </p:nvPicPr>
        <p:blipFill>
          <a:blip r:embed="rId1"/>
          <a:stretch/>
        </p:blipFill>
        <p:spPr>
          <a:xfrm>
            <a:off x="179280" y="142920"/>
            <a:ext cx="649440" cy="6490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7"/>
          <p:cNvSpPr/>
          <p:nvPr/>
        </p:nvSpPr>
        <p:spPr>
          <a:xfrm>
            <a:off x="1258920" y="2637000"/>
            <a:ext cx="6697800" cy="1511280"/>
          </a:xfrm>
          <a:prstGeom prst="rect">
            <a:avLst/>
          </a:prstGeom>
          <a:noFill/>
          <a:ln w="1908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749880" y="4581360"/>
            <a:ext cx="76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00"/>
                </a:solidFill>
                <a:latin typeface="Georgia"/>
              </a:rPr>
              <a:t>Синтетический</a:t>
            </a: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 – объединяющий разнородное.</a:t>
            </a:r>
            <a:r>
              <a:rPr b="0" lang="ru-RU" sz="1800" spc="-1" strike="noStrike">
                <a:solidFill>
                  <a:srgbClr val="66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10" descr="logo univ"/>
          <p:cNvPicPr/>
          <p:nvPr/>
        </p:nvPicPr>
        <p:blipFill>
          <a:blip r:embed="rId2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6800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Понятие и структура философии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08:14:36Z</dcterms:created>
  <dc:creator>David</dc:creator>
  <dc:description/>
  <dc:language>en-US</dc:language>
  <cp:lastModifiedBy>Bryush</cp:lastModifiedBy>
  <dcterms:modified xsi:type="dcterms:W3CDTF">2009-04-19T20:57:05Z</dcterms:modified>
  <cp:revision>13</cp:revision>
  <dc:subject/>
  <dc:title>Слайд 1</dc:title>
</cp:coreProperties>
</file>